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CF2-6F96-4FB4-BA52-184D7837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531-8DF5-4B6E-BECD-0F1A556C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64F-E3FB-4DA8-B974-96F12140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F91-7306-4AB6-A05C-E757C2FB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888-D26B-4DB0-A3D0-0F8DA84E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5E3-975B-4071-A83F-B5991607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140-1A22-434C-B416-690AB01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A10-7D01-4704-A845-55BAB9DE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B75-2210-4654-89AF-B4A6912A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80D-8C10-4F70-9928-7E266E88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21E-A4F0-4C04-BCFD-964D748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059-66ED-49EE-8E7E-B7159D0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4262-C049-411E-80B1-3FA2832D5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psofworld.com/" TargetMode="External"/><Relationship Id="rId2" Type="http://schemas.openxmlformats.org/officeDocument/2006/relationships/hyperlink" Target="http://www.cia.gov/" TargetMode="External"/><Relationship Id="rId3" Type="http://schemas.openxmlformats.org/officeDocument/2006/relationships/hyperlink" Target="http://www.wsd1.com/" TargetMode="External"/><Relationship Id="rId4" Type="http://schemas.openxmlformats.org/officeDocument/2006/relationships/hyperlink" Target="http://www.factsville.com/" TargetMode="External"/><Relationship Id="rId5" Type="http://schemas.openxmlformats.org/officeDocument/2006/relationships/hyperlink" Target="http://www.dredcontral.com/" TargetMode="External"/><Relationship Id="rId6" Type="http://schemas.openxmlformats.org/officeDocument/2006/relationships/hyperlink" Target="http://www.umsl.edu/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3047760"/>
            <a:ext cx="4876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apsofworld.com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a.gov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wsd1.com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actsville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ikipedia.org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Rainforest.mon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putnam.k12.ga.u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72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dredcontra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umsl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2.winfield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ledgehammergraphi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peacesymba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5:09:38Z</dcterms:created>
  <dc:creator>teacher</dc:creator>
  <dc:description/>
  <dc:language>en-US</dc:language>
  <cp:lastModifiedBy>teacher</cp:lastModifiedBy>
  <dcterms:modified xsi:type="dcterms:W3CDTF">2010-05-07T14:37:06Z</dcterms:modified>
  <cp:revision>4</cp:revision>
  <dc:subject/>
  <dc:title>Bibliography</dc:title>
</cp:coreProperties>
</file>